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his%20is%20Jeopardy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D42-9DC3-4C31-BD26-6B145209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9B5-FC7C-413B-A6B3-40A2C93C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B39-4E35-421B-B78E-C46A1413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640-4DB7-4CB6-9693-DB24D41B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B89-53F9-47C4-942B-E0CD6514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CE8-ECFB-4723-A750-1540A42C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2FC-2AB9-4615-8BE5-76EB0986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C41-1C92-4FA3-9D82-DE434952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E9C-A4EA-4C9B-BBFD-4C686048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C6E-5706-43F9-805A-3D48C68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9C9-4D02-4A60-8345-9111882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D89-C6B4-4A11-9155-2657BD9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91D6-5742-429F-BCAC-BC807ED88420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5.xml"/><Relationship Id="rId17" Type="http://schemas.openxmlformats.org/officeDocument/2006/relationships/slide" Target="slide11.xml"/><Relationship Id="rId18" Type="http://schemas.openxmlformats.org/officeDocument/2006/relationships/slide" Target="slide12.xml"/><Relationship Id="rId19" Type="http://schemas.openxmlformats.org/officeDocument/2006/relationships/slide" Target="slide13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slide" Target="slide26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18.xml"/><Relationship Id="rId27" Type="http://schemas.openxmlformats.org/officeDocument/2006/relationships/slide" Target="slide23.xml"/><Relationship Id="rId28" Type="http://schemas.openxmlformats.org/officeDocument/2006/relationships/slide" Target="slide28.xml"/><Relationship Id="rId29" Type="http://schemas.openxmlformats.org/officeDocument/2006/relationships/slide" Target=""/><Relationship Id="rId30" Type="http://schemas.openxmlformats.org/officeDocument/2006/relationships/image" Target="../media/image3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880" y="5943600"/>
            <a:ext cx="23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Written by Roland William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152388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05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lbert Einste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li Whitne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nry Ford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05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ael Farada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14300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Using knowledge and resources to create products that extend our capabilities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3716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Creation of a new and unique product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447920"/>
            <a:ext cx="7925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Study the natural world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1932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process of altering an existing product or system to improve it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2193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uman made objec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066680"/>
            <a:ext cx="784872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characteristics of a person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990720"/>
            <a:ext cx="784836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effects of technology on people, their cultures, economics, and their politics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914400"/>
            <a:ext cx="761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Defining the problem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Brainstorming a solut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Generating idea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dentifying criteria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xploring possibiliti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Selecting an approach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Making a model or prototyp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Testing or evaluating the desig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Refining the desig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447920"/>
            <a:ext cx="815328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A full-size working model used to test a design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762120"/>
            <a:ext cx="7925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Decreasing the overall capabilities of a product or system in order to increase its ability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bar which lies on a fixed support known as a fulcrum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828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chain or rope wrapped around a grooved wheel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mooth slanted surface, such as a ram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066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iece of metal or wood with one or two inclined plan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0666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imple machine made up of two circl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venti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imp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chin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vento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990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change created by improving an existing technolog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Orville &amp; Wilbur Wrigh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George Washington Carve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Thomas Edis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Benjamin Frankli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Galileo Galilei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telephon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atom bomb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cotton gi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assembly lin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rplan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electric moto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echnolog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nven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cienc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nnova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rtifac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ttribut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societal impact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6002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ngineering design proces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rototyp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anut But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pecialization of fun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leve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ulle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inclined plan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wedg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wheel and axl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nnova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honograph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523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ifocal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roscop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lexander Graham Bel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Flanders</cp:lastModifiedBy>
  <dcterms:modified xsi:type="dcterms:W3CDTF">2010-02-01T21:22:39Z</dcterms:modified>
  <cp:revision>30</cp:revision>
  <dc:subject/>
  <dc:title>No Slide Title</dc:title>
</cp:coreProperties>
</file>